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9D5E-A0A1-4E36-ACE1-4EC7F13E48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th December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4B2-A0DF-43C0-A302-9BEE6B8E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E58-801A-4A2F-BC62-6E92F76B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D75-6FA2-4824-8945-E145EDE0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D6F-AABA-4D83-B082-A74177F2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9E2-360E-40BA-A13E-C15C0086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B8D-C9BA-4E18-BA8D-5BA578C5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4D8-D48C-47B4-96F8-D28CC864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C8D-035F-4699-83FF-490748A5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44E-49B2-4380-A888-C129E40D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B57-F354-47B5-AAB8-C0CF7C26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E12-F693-4510-8051-C6BA2F9C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D20-4ED2-4E1D-8886-E65DB03F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C696-12AD-45EF-8666-092424EBCE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00320" y="-360"/>
            <a:ext cx="3343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Dec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8760" y="928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53:39Z</dcterms:created>
  <dc:creator>james</dc:creator>
  <dc:description/>
  <dc:language>en-US</dc:language>
  <cp:lastModifiedBy>RomaK</cp:lastModifiedBy>
  <dcterms:modified xsi:type="dcterms:W3CDTF">2015-09-04T10:36:00Z</dcterms:modified>
  <cp:revision>7</cp:revision>
  <dc:subject/>
  <dc:title>Today’s lesson is about letters</dc:title>
</cp:coreProperties>
</file>